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69AD-3882-42D8-99A1-6327E9B4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3162-4638-4A7F-8F84-1ACC0875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842B-F95A-4AF6-A8C4-5EA4515D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F645-CF7F-45D7-B71A-8ED00551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0190-3778-44C0-AC90-FC050ED0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113C-5650-47EA-A7FB-5C3F2F23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9B75-27AC-4B5E-9312-8F4DC5FB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1A6F-6F11-45A2-BEB0-62711613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B839-7BFE-4714-9388-FC3B38FF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ADEB-386D-4533-84F6-87A42186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F7ED-C166-43A9-8B87-2BD9AE10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311B-A91C-4911-B19B-ECB59B7A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F84B-84FB-4EC4-8AE5-A4B4ADB6A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3320" y="357120"/>
            <a:ext cx="76773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03:22:53Z</dcterms:created>
  <dc:creator>claguna</dc:creator>
  <dc:description/>
  <dc:language>en-US</dc:language>
  <cp:lastModifiedBy>claguna</cp:lastModifiedBy>
  <dcterms:modified xsi:type="dcterms:W3CDTF">2007-10-19T11:43:52Z</dcterms:modified>
  <cp:revision>2</cp:revision>
  <dc:subject/>
  <dc:title>Slide 1</dc:title>
</cp:coreProperties>
</file>